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9E5E-C84E-4D53-B172-F9229BC6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228-E0A9-4B8E-9A92-563E34B3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FF69-F423-4729-94A2-DDFBC81A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CA84-BCBB-4C89-B08C-1F9441A7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7FA7-1977-408B-8F3B-CF73AA12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91EB-2836-4721-9ED3-8AE0BDB9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F50B-F9CA-4845-A908-FD81B701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477B-A747-48C0-A25C-B596B37F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B492-33C2-44EA-97D0-454FF7ED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26C1-8016-4484-B63E-C5F307E8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8622-F6FF-4634-9B8A-7C4AAD38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F0EC-208B-4C0C-A857-96418784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DD42-42D0-473B-9F50-0BBBA0F6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680C-2CB0-43A7-89B2-8137E96F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8B30-14AD-4C9A-93CB-9BF3F146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B0EB-14D8-4275-9F13-DDED08468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E78D-B4F2-4C83-BAA7-646342DF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4D88-BD02-4C67-9D76-3408AA94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0657-A67F-470A-92E6-3660E318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14FB-E845-4533-A2EB-9346204A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F627-FD3E-49D0-972A-757F8D38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BE13-8BCB-415B-A7AE-B8154C10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A482-4CBF-47B7-8489-55D1EB1E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7653-7BEF-4532-B70A-2B2DD6C4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8C1E-4478-4886-BBD5-6FD83950604C}" type="slidenum">
              <a:rPr b="0" lang="ro-RO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4F33-3774-4EF0-AD1D-8BAFC5B6E07E}" type="slidenum">
              <a:rPr b="0" lang="ro-RO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6920" y="321264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ccecff"/>
                </a:solidFill>
                <a:latin typeface="Arial"/>
              </a:rPr>
              <a:t>Fenomene termice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ro-RO" sz="4800" spc="-1" strike="noStrike">
                <a:solidFill>
                  <a:srgbClr val="ccecff"/>
                </a:solidFill>
                <a:latin typeface="Arial"/>
              </a:rPr>
              <a:t>                      </a:t>
            </a:r>
            <a:r>
              <a:rPr b="0" lang="ro-RO" sz="4000" spc="-1" strike="noStrike">
                <a:solidFill>
                  <a:srgbClr val="ccecff"/>
                </a:solidFill>
                <a:latin typeface="Arial"/>
              </a:rPr>
              <a:t>prof. Peczi Olg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23640" y="40428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300" spc="-1" strike="noStrike">
                <a:solidFill>
                  <a:srgbClr val="eaeaea"/>
                </a:solidFill>
                <a:latin typeface="Arial"/>
              </a:rPr>
              <a:t>Şcoala cu cls. I-VIII “ Pavel Dan” </a:t>
            </a:r>
            <a:endParaRPr b="0" lang="en-US" sz="33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300" spc="-1" strike="noStrike">
                <a:solidFill>
                  <a:srgbClr val="eaeaea"/>
                </a:solidFill>
                <a:latin typeface="Arial"/>
              </a:rPr>
              <a:t>Tritenii de Jos </a:t>
            </a:r>
            <a:endParaRPr b="0" lang="en-US" sz="33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300" spc="-1" strike="noStrike">
                <a:solidFill>
                  <a:srgbClr val="eaeaea"/>
                </a:solidFill>
                <a:latin typeface="Arial"/>
              </a:rPr>
              <a:t>Jud: Cluj</a:t>
            </a:r>
            <a:endParaRPr b="0" lang="en-US" sz="3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ccecff"/>
                </a:solidFill>
                <a:latin typeface="Arial"/>
              </a:rPr>
              <a:t>Obiectivele urmărit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Arial"/>
              </a:rPr>
              <a:t>Cunoaşterera noţiunilor termice: difuzie, temperatură, căldură, combustibili, putere calorică, conducţie termică, motoare termice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Arial"/>
              </a:rPr>
              <a:t>Clasificarea combustibililor, substanţelor din punct de vedere al conductibilităţii şi a motoarelor termice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Arial"/>
              </a:rPr>
              <a:t>Cunoaşterea caracteristicilor motoarelor termice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Arial"/>
              </a:rPr>
              <a:t>Descrierea principiului de funcţionare al unui motor electri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ccecff"/>
                </a:solidFill>
                <a:latin typeface="Arial"/>
              </a:rPr>
              <a:t>Difuz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98560" y="1987560"/>
            <a:ext cx="3093840" cy="32893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281480" y="1911240"/>
            <a:ext cx="431640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38970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ccecff"/>
                </a:solidFill>
                <a:latin typeface="Arial"/>
              </a:rPr>
              <a:t>Temperatur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219640" y="549360"/>
            <a:ext cx="3313080" cy="2305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68440" y="24177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62040" y="312480"/>
            <a:ext cx="4959360" cy="10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ccecff"/>
                </a:solidFill>
                <a:latin typeface="Arial"/>
              </a:rPr>
              <a:t>Conductoare şi izolatoar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2560" y="3054240"/>
            <a:ext cx="3959280" cy="27194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932360" y="1268280"/>
            <a:ext cx="35305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35366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ccecff"/>
                </a:solidFill>
                <a:latin typeface="Arial"/>
              </a:rPr>
              <a:t>Combustibil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54200" y="1697040"/>
            <a:ext cx="3238200" cy="2008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929120" y="1770120"/>
            <a:ext cx="3238560" cy="1861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828720" y="4057560"/>
            <a:ext cx="3090960" cy="2001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4929120" y="3984480"/>
            <a:ext cx="316872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39668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ccecff"/>
                </a:solidFill>
                <a:latin typeface="Arial"/>
              </a:rPr>
              <a:t>Motoare termic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0" y="2852640"/>
            <a:ext cx="3960720" cy="3456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682560" y="1841400"/>
            <a:ext cx="33098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ccecff"/>
                </a:solidFill>
                <a:latin typeface="Arial"/>
              </a:rPr>
              <a:t>Evaluar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Arial"/>
              </a:rPr>
              <a:t>formativă: prin fişe de evaluare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Arial"/>
              </a:rPr>
              <a:t>sumativă: proiecte şi portofolii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17:42:08Z</dcterms:created>
  <dc:creator>aaa</dc:creator>
  <dc:description/>
  <dc:language>en-US</dc:language>
  <cp:lastModifiedBy>aaa</cp:lastModifiedBy>
  <dcterms:modified xsi:type="dcterms:W3CDTF">2010-05-25T20:01:53Z</dcterms:modified>
  <cp:revision>6</cp:revision>
  <dc:subject/>
  <dc:title>Fenomene termice                           prof. Peczi Olga</dc:title>
</cp:coreProperties>
</file>